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1C2-8912-4A41-AA31-D5B4D128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F2F-41F6-48B3-9DFD-D28531EA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FFE-EFEF-486D-A3DC-EF4EF415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C62-4EF6-42D7-B55D-BA726EAC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6D8C-3B2C-4A7A-A107-053725E6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D710-9D88-4F6A-8E81-99DEB412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D532-6EE7-40AF-9A36-7F43737A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7A9B-4857-46D9-A943-24169E69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108E-1A16-49BF-8FAB-5D0CD18A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770E-DCE9-4AEC-9D29-649A63C1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A895-9351-40A7-A87B-AC03FF46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C94-7D1B-43D1-813F-444DD2D7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8BE1-E2FF-4669-AA37-052F7FE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4A89-4995-423C-AABD-08F17DC0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80C7-8734-4B23-A9C6-85627C09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7466-D053-4CD4-8D9D-D9EB96AC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8133-970A-44BC-A1C7-A25EF350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5C9F-422F-4704-BC23-62BEDC29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29F0-9D85-48F8-BEB3-38DD09B1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2129-4304-4B6D-B7C8-0DDFE480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24AE-6113-4849-96C5-F4F87C4A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2C84-AAF5-487B-83F2-50664F0E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E65-9786-42FA-BB49-ED52BC4C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717F-A76F-4A37-8C29-155BB526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D1C4E-61B5-4EC9-A3F4-A229393B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D1BE-8E70-4AB4-B172-E1A5F6FF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9C26-250D-41C6-90CD-714960B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2E18-7E08-4408-B83F-D558C5FB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DF8A-CDA9-45A5-A6CF-3EF80C1D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92C4-1367-4EF4-9124-0DFEB52C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1F897-FF94-4B69-9297-F1274C08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ABA5-8CF2-4A75-8F6B-A89B659E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9891-E684-4D0C-A86E-3584C4DA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703-F86E-446D-AD8B-2ABF3CD9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A6E3-4DF1-49ED-9103-E0263FC2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80DF-58A4-4A3C-939C-1D8FA958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C798-2A84-42A2-A597-E0BD58A8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7564D-1D2A-42FF-9C90-B66000DD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50A1-4BAD-4ACF-BFBD-41C1C0E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95BE5-31FE-4604-AB47-0D6080E3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0403D-795F-4D9C-A633-7541FE57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3990-FEC8-43F4-A211-09607EBA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F3A5-4C2D-44BF-B497-C6DBF5EA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F9F92-F6BC-4528-B6E5-85117EB6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7BC-0F9E-4A73-87E8-0E17305C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1FB89-03D7-4312-BAF6-3E00B2A7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4BFBC-91B4-4C1C-959E-74447A10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19B1D-7052-4E66-BD52-2D7ECBDE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A9535-320C-4BCD-8972-3AC62017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C70A-E4A0-41D2-A50C-8D992B81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CFA1-AA77-4AED-8892-9693A6A0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9DD07-60E2-4D0B-A774-738976CB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19013-A198-433E-9F26-E8FB196B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560EC-B2DE-44E6-84F4-1A4F7351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C4070-C66F-434B-B7AB-A0A9BAF8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2CC-DB2C-4CB9-A696-A65064D3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A0577-AD93-44AE-B8B9-3489704C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BEC3-2907-4267-99BC-03EB3848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3C73-5E9C-4E16-AFB2-4E2A5319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EABF2-A95E-432A-882E-966D657B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97D45-6604-440E-AC7D-D6A331B3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B74C4-6A8E-4532-BCDD-72AB3D69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13428-2724-463A-A0F4-A6DA6E25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C5541-9106-45F6-AC52-CD6E285B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6E94-47B0-40E6-8CC5-8CB11B26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9FE0B-26F3-4C22-A593-C9ADABB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294-FF3D-45E4-ADB0-84872F0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5264-535A-45C5-A145-18536BA6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32E6-D571-4C8A-9F84-44F57A9A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3BCF-01B9-469B-B654-328B60E8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A4758-4A93-4083-A093-3A0AB9BB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64187-D996-4A91-9E03-41134B5D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E0823-8ECD-4949-8510-4FDC1D67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51BD5-A32C-47C3-90AA-7B12E5A6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871F8-8167-4F2D-AC1D-A4B911A3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89315-370F-4BB3-8AE6-EC9CB04A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F37F1-16F3-4186-AF56-4106EF25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FD1-E158-4853-AF40-76FF026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CD46-07C9-45AC-91D1-337BB2E1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592C1-99A2-4D26-9E18-2EBADB37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1D879-4E5C-42C5-866F-9F7EB46B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7E6F-0163-4FB5-BCD8-DAC9CFB6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E1752-1581-43D6-B120-F76838DE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F9D65-D981-407E-AAF1-05148352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C0CB2-09FB-4358-B221-743DAD78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8194D-D1A5-4E6C-8466-9341F36A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9111F-CF5A-4A8C-80A2-94098400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23AB-9A58-4899-99F3-910F336F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BDC-49A6-46D7-9E2B-EDB68F5F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5D70B-42D9-4046-905B-8AF0B9E0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7DF91-6CFC-4E82-B37F-1D431C2C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D2532-38BE-4AAC-9A90-C9490DF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AD61C-8DB3-43AF-BFC2-3FEB95EF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FE09E-42C9-4280-9CB1-AA00773D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D8FB7-D2A1-4765-A5A3-0AFAA113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3658A-DE2D-43B5-86B9-FF2C619B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D092-D23F-4A41-BA68-3B8D7E777E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AAE2-7F78-4F49-B0BD-380DF5FC69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419A-6938-4BD6-9D10-850AEE348D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387D-6C28-4D84-B90E-D5AEE63AD8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067A-7784-4C33-A85A-D26956C62B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C345-C3A2-4926-99BC-0E6051686E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53D-CE83-4B60-9967-5B6E864F5F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6938-AA6F-4BBA-BB3F-7B325810FAB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9.png"/><Relationship Id="rId4" Type="http://schemas.openxmlformats.org/officeDocument/2006/relationships/slide" Target="slide3.xml"/><Relationship Id="rId5" Type="http://schemas.openxmlformats.org/officeDocument/2006/relationships/image" Target="../media/image10.png"/><Relationship Id="rId6" Type="http://schemas.openxmlformats.org/officeDocument/2006/relationships/slide" Target="slide5.xml"/><Relationship Id="rId7" Type="http://schemas.openxmlformats.org/officeDocument/2006/relationships/image" Target="../media/image11.pn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10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6.xml"/><Relationship Id="rId3" Type="http://schemas.openxmlformats.org/officeDocument/2006/relationships/image" Target="../media/image16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28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Lucida Sans Unicode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восьм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8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227640" y="579132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1481040"/>
            <a:ext cx="821844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543 в восьм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543 в восьмеричной системе равняется 103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1211400" y="2637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4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26" name="Группа 10"/>
          <p:cNvGrpSpPr/>
          <p:nvPr/>
        </p:nvGrpSpPr>
        <p:grpSpPr>
          <a:xfrm>
            <a:off x="1812960" y="2728800"/>
            <a:ext cx="503280" cy="433440"/>
            <a:chOff x="1812960" y="2728800"/>
            <a:chExt cx="503280" cy="433440"/>
          </a:xfrm>
        </p:grpSpPr>
        <p:sp>
          <p:nvSpPr>
            <p:cNvPr id="427" name="Прямая соединительная линия 6"/>
            <p:cNvSpPr/>
            <p:nvPr/>
          </p:nvSpPr>
          <p:spPr>
            <a:xfrm>
              <a:off x="1812960" y="27288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8" name="Прямая соединительная линия 7"/>
            <p:cNvSpPr/>
            <p:nvPr/>
          </p:nvSpPr>
          <p:spPr>
            <a:xfrm flipH="1">
              <a:off x="1812960" y="29462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9" name="TextBox 11"/>
          <p:cNvSpPr/>
          <p:nvPr/>
        </p:nvSpPr>
        <p:spPr>
          <a:xfrm>
            <a:off x="1845000" y="2622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Box 12"/>
          <p:cNvSpPr/>
          <p:nvPr/>
        </p:nvSpPr>
        <p:spPr>
          <a:xfrm>
            <a:off x="1854720" y="2952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1230480" y="2930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3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Прямая соединительная линия 15"/>
          <p:cNvSpPr/>
          <p:nvPr/>
        </p:nvSpPr>
        <p:spPr>
          <a:xfrm>
            <a:off x="1258920" y="3270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Box 16"/>
          <p:cNvSpPr/>
          <p:nvPr/>
        </p:nvSpPr>
        <p:spPr>
          <a:xfrm>
            <a:off x="1490040" y="330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34" name="Группа 17"/>
          <p:cNvGrpSpPr/>
          <p:nvPr/>
        </p:nvGrpSpPr>
        <p:grpSpPr>
          <a:xfrm>
            <a:off x="2340000" y="2982960"/>
            <a:ext cx="503280" cy="431640"/>
            <a:chOff x="2340000" y="2982960"/>
            <a:chExt cx="503280" cy="431640"/>
          </a:xfrm>
        </p:grpSpPr>
        <p:sp>
          <p:nvSpPr>
            <p:cNvPr id="435" name="Прямая соединительная линия 18"/>
            <p:cNvSpPr/>
            <p:nvPr/>
          </p:nvSpPr>
          <p:spPr>
            <a:xfrm>
              <a:off x="2340000" y="2982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Прямая соединительная линия 19"/>
            <p:cNvSpPr/>
            <p:nvPr/>
          </p:nvSpPr>
          <p:spPr>
            <a:xfrm flipH="1">
              <a:off x="2340000" y="31986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37" name="TextBox 20"/>
          <p:cNvSpPr/>
          <p:nvPr/>
        </p:nvSpPr>
        <p:spPr>
          <a:xfrm>
            <a:off x="2364120" y="290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Box 21"/>
          <p:cNvSpPr/>
          <p:nvPr/>
        </p:nvSpPr>
        <p:spPr>
          <a:xfrm>
            <a:off x="2379240" y="318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1839960" y="3228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Прямая соединительная линия 23"/>
          <p:cNvSpPr/>
          <p:nvPr/>
        </p:nvSpPr>
        <p:spPr>
          <a:xfrm>
            <a:off x="1816200" y="3530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1999800" y="355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42" name="Группа 25"/>
          <p:cNvGrpSpPr/>
          <p:nvPr/>
        </p:nvGrpSpPr>
        <p:grpSpPr>
          <a:xfrm>
            <a:off x="2843280" y="3198960"/>
            <a:ext cx="504720" cy="431640"/>
            <a:chOff x="2843280" y="3198960"/>
            <a:chExt cx="504720" cy="431640"/>
          </a:xfrm>
        </p:grpSpPr>
        <p:sp>
          <p:nvSpPr>
            <p:cNvPr id="443" name="Прямая соединительная линия 26"/>
            <p:cNvSpPr/>
            <p:nvPr/>
          </p:nvSpPr>
          <p:spPr>
            <a:xfrm>
              <a:off x="2843280" y="3198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Прямая соединительная линия 27"/>
            <p:cNvSpPr/>
            <p:nvPr/>
          </p:nvSpPr>
          <p:spPr>
            <a:xfrm flipH="1">
              <a:off x="2843280" y="34146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45" name="TextBox 28"/>
          <p:cNvSpPr/>
          <p:nvPr/>
        </p:nvSpPr>
        <p:spPr>
          <a:xfrm>
            <a:off x="2887200" y="314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TextBox 32"/>
          <p:cNvSpPr/>
          <p:nvPr/>
        </p:nvSpPr>
        <p:spPr>
          <a:xfrm>
            <a:off x="2925360" y="348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TextBox 33"/>
          <p:cNvSpPr/>
          <p:nvPr/>
        </p:nvSpPr>
        <p:spPr>
          <a:xfrm>
            <a:off x="2375280" y="340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Прямая соединительная линия 34"/>
          <p:cNvSpPr/>
          <p:nvPr/>
        </p:nvSpPr>
        <p:spPr>
          <a:xfrm>
            <a:off x="2340000" y="37209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TextBox 35"/>
          <p:cNvSpPr/>
          <p:nvPr/>
        </p:nvSpPr>
        <p:spPr>
          <a:xfrm>
            <a:off x="2493360" y="377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Прямая соединительная линия 37"/>
          <p:cNvSpPr/>
          <p:nvPr/>
        </p:nvSpPr>
        <p:spPr>
          <a:xfrm flipH="1">
            <a:off x="2843280" y="3703680"/>
            <a:ext cx="720720" cy="5745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51" name="Прямая со стрелкой 39"/>
          <p:cNvCxnSpPr/>
          <p:nvPr/>
        </p:nvCxnSpPr>
        <p:spPr>
          <a:xfrm flipH="1" flipV="1">
            <a:off x="1042200" y="3413880"/>
            <a:ext cx="1801080" cy="86436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52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шестнадцат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16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300720" y="578016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287 в шестнадцат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287 в шестнадцатеричной системе счисления равняется 5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1074600" y="270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0" name="Группа 4"/>
          <p:cNvGrpSpPr/>
          <p:nvPr/>
        </p:nvGrpSpPr>
        <p:grpSpPr>
          <a:xfrm>
            <a:off x="1812960" y="2816280"/>
            <a:ext cx="503280" cy="431640"/>
            <a:chOff x="1812960" y="2816280"/>
            <a:chExt cx="503280" cy="431640"/>
          </a:xfrm>
        </p:grpSpPr>
        <p:sp>
          <p:nvSpPr>
            <p:cNvPr id="461" name="Прямая соединительная линия 5"/>
            <p:cNvSpPr/>
            <p:nvPr/>
          </p:nvSpPr>
          <p:spPr>
            <a:xfrm>
              <a:off x="1812960" y="2816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2" name="Прямая соединительная линия 6"/>
            <p:cNvSpPr/>
            <p:nvPr/>
          </p:nvSpPr>
          <p:spPr>
            <a:xfrm flipH="1">
              <a:off x="1812960" y="30319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3" name="TextBox 7"/>
          <p:cNvSpPr/>
          <p:nvPr/>
        </p:nvSpPr>
        <p:spPr>
          <a:xfrm>
            <a:off x="1851840" y="270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1854720" y="3040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TextBox 9"/>
          <p:cNvSpPr/>
          <p:nvPr/>
        </p:nvSpPr>
        <p:spPr>
          <a:xfrm>
            <a:off x="1077840" y="2997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Прямая соединительная линия 10"/>
          <p:cNvSpPr/>
          <p:nvPr/>
        </p:nvSpPr>
        <p:spPr>
          <a:xfrm>
            <a:off x="125892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TextBox 11"/>
          <p:cNvSpPr/>
          <p:nvPr/>
        </p:nvSpPr>
        <p:spPr>
          <a:xfrm>
            <a:off x="1490040" y="3397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8" name="Группа 12"/>
          <p:cNvGrpSpPr/>
          <p:nvPr/>
        </p:nvGrpSpPr>
        <p:grpSpPr>
          <a:xfrm>
            <a:off x="2340000" y="3068640"/>
            <a:ext cx="503280" cy="431640"/>
            <a:chOff x="2340000" y="3068640"/>
            <a:chExt cx="503280" cy="431640"/>
          </a:xfrm>
        </p:grpSpPr>
        <p:sp>
          <p:nvSpPr>
            <p:cNvPr id="469" name="Прямая соединительная линия 13"/>
            <p:cNvSpPr/>
            <p:nvPr/>
          </p:nvSpPr>
          <p:spPr>
            <a:xfrm>
              <a:off x="234000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70" name="Прямая соединительная линия 14"/>
            <p:cNvSpPr/>
            <p:nvPr/>
          </p:nvSpPr>
          <p:spPr>
            <a:xfrm flipH="1">
              <a:off x="2340000" y="328428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71" name="TextBox 15"/>
          <p:cNvSpPr/>
          <p:nvPr/>
        </p:nvSpPr>
        <p:spPr>
          <a:xfrm>
            <a:off x="2371680" y="2994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TextBox 16"/>
          <p:cNvSpPr/>
          <p:nvPr/>
        </p:nvSpPr>
        <p:spPr>
          <a:xfrm>
            <a:off x="2379240" y="327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TextBox 17"/>
          <p:cNvSpPr/>
          <p:nvPr/>
        </p:nvSpPr>
        <p:spPr>
          <a:xfrm>
            <a:off x="1839960" y="3314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Прямая соединительная линия 18"/>
          <p:cNvSpPr/>
          <p:nvPr/>
        </p:nvSpPr>
        <p:spPr>
          <a:xfrm>
            <a:off x="1816200" y="36162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TextBox 19"/>
          <p:cNvSpPr/>
          <p:nvPr/>
        </p:nvSpPr>
        <p:spPr>
          <a:xfrm>
            <a:off x="199980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Прямая соединительная линия 28"/>
          <p:cNvSpPr/>
          <p:nvPr/>
        </p:nvSpPr>
        <p:spPr>
          <a:xfrm flipH="1">
            <a:off x="2268360" y="3500280"/>
            <a:ext cx="71928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77" name="Прямая со стрелкой 29"/>
          <p:cNvCxnSpPr/>
          <p:nvPr/>
        </p:nvCxnSpPr>
        <p:spPr>
          <a:xfrm flipH="1" flipV="1">
            <a:off x="1042560" y="3499560"/>
            <a:ext cx="1226160" cy="57708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78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kimvv\Desktop\button-926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0836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kimvv\Desktop\button-7442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1600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Users\kimvv\Desktop\button-1514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072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Users\kimvv\Desktop\button-5312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1600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Users\kimvv\Desktop\button-4783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0836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Users\kimvv\Desktop\button-4214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300720" y="364500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восьмеричное его нужно разбить на группы по три цифры, справа налево, а затем преобразовать каждую группу в восьмеричную цифру. Если в последней, левой, группе окажется меньше трех цифр, то необходимо ее дополнить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653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Users\kimvv\Desktop\button-7866.png"/>
          <p:cNvPicPr/>
          <p:nvPr/>
        </p:nvPicPr>
        <p:blipFill>
          <a:blip r:embed="rId4"/>
          <a:stretch/>
        </p:blipFill>
        <p:spPr>
          <a:xfrm>
            <a:off x="5508720" y="465300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581360"/>
            <a:ext cx="1081080" cy="10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0011010 из двоичной в восьм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три цифры начиная справа: 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ри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10 = 2, 011 = 3, 010 = 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0011010 в восьмеричной системе равно 2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ая соединительная линия 4"/>
          <p:cNvSpPr/>
          <p:nvPr/>
        </p:nvSpPr>
        <p:spPr>
          <a:xfrm>
            <a:off x="630072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5"/>
          <p:cNvSpPr/>
          <p:nvPr/>
        </p:nvSpPr>
        <p:spPr>
          <a:xfrm>
            <a:off x="555480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рямая соединительная линия 6"/>
          <p:cNvSpPr/>
          <p:nvPr/>
        </p:nvSpPr>
        <p:spPr>
          <a:xfrm>
            <a:off x="788508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рямая соединительная линия 7"/>
          <p:cNvSpPr/>
          <p:nvPr/>
        </p:nvSpPr>
        <p:spPr>
          <a:xfrm>
            <a:off x="713916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4" descr="C:\Users\kimvv\Desktop\button-7866.png"/>
          <p:cNvPicPr/>
          <p:nvPr/>
        </p:nvPicPr>
        <p:blipFill>
          <a:blip r:embed="rId2"/>
          <a:stretch/>
        </p:blipFill>
        <p:spPr>
          <a:xfrm>
            <a:off x="5651640" y="5732640"/>
            <a:ext cx="1676160" cy="952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C:\Users\kimvv\Desktop\505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661000"/>
            <a:ext cx="10792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шестнадцатеричное его нужно разбить на группы по четыре цифры (тетрады), начиная справа, и, если в последней левой группе окажется меньше четырех цифр, дополнить ее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360360" y="122400"/>
            <a:ext cx="8418600" cy="1304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36572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kimvv\Desktop\button-3062.png"/>
          <p:cNvPicPr/>
          <p:nvPr/>
        </p:nvPicPr>
        <p:blipFill>
          <a:blip r:embed="rId4"/>
          <a:stretch/>
        </p:blipFill>
        <p:spPr>
          <a:xfrm>
            <a:off x="5508720" y="436572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29264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101011010 из двоичной в шестнадцат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четыре цифры начиная справа: 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етр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011 = 3, 0101 = 5, 1010 =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101011010 в Шестнадцатеричной системе равно 3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371520" y="-36360"/>
            <a:ext cx="8418600" cy="13046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3"/>
          <p:cNvSpPr/>
          <p:nvPr/>
        </p:nvSpPr>
        <p:spPr>
          <a:xfrm>
            <a:off x="651672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Прямая соединительная линия 4"/>
          <p:cNvSpPr/>
          <p:nvPr/>
        </p:nvSpPr>
        <p:spPr>
          <a:xfrm>
            <a:off x="558000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>
            <a:off x="2843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Прямая соединительная линия 8"/>
          <p:cNvSpPr/>
          <p:nvPr/>
        </p:nvSpPr>
        <p:spPr>
          <a:xfrm>
            <a:off x="1835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C:\Users\kimvv\Desktop\button-3062.png"/>
          <p:cNvPicPr/>
          <p:nvPr/>
        </p:nvPicPr>
        <p:blipFill>
          <a:blip r:embed="rId2"/>
          <a:stretch/>
        </p:blipFill>
        <p:spPr>
          <a:xfrm>
            <a:off x="6453360" y="6006960"/>
            <a:ext cx="1315800" cy="747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8101080" y="5932440"/>
            <a:ext cx="863640" cy="8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в десятеричную систему счисления необходимо найти сумму произведений основания 2 на соответствующую степень разряд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имер: необходимо перевести число 110011 в десятеричную систему счисл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Kim\Desktop\trancletedigits2.preview.png"/>
          <p:cNvPicPr/>
          <p:nvPr/>
        </p:nvPicPr>
        <p:blipFill>
          <a:blip r:embed="rId2"/>
          <a:srcRect l="1400" t="36693" r="2085" b="11829"/>
          <a:stretch/>
        </p:blipFill>
        <p:spPr>
          <a:xfrm>
            <a:off x="900000" y="4221000"/>
            <a:ext cx="7994880" cy="144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7812000" y="566100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дво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2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7740720" y="5516640"/>
            <a:ext cx="1079280" cy="1073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5940360" y="551664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36 в двоичную систему счисл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36 в двоичной системе равно 10001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grpSp>
        <p:nvGrpSpPr>
          <p:cNvPr id="415" name="Группа 11266"/>
          <p:cNvGrpSpPr/>
          <p:nvPr/>
        </p:nvGrpSpPr>
        <p:grpSpPr>
          <a:xfrm>
            <a:off x="1476360" y="2421000"/>
            <a:ext cx="4390920" cy="3095640"/>
            <a:chOff x="1476360" y="2421000"/>
            <a:chExt cx="4390920" cy="3095640"/>
          </a:xfrm>
        </p:grpSpPr>
        <p:pic>
          <p:nvPicPr>
            <p:cNvPr id="416" name="Picture 2" descr="39050_html_m14312ab5"/>
            <p:cNvPicPr/>
            <p:nvPr/>
          </p:nvPicPr>
          <p:blipFill>
            <a:blip r:embed="rId2"/>
            <a:srcRect l="25195" t="32003" r="8423" b="0"/>
            <a:stretch/>
          </p:blipFill>
          <p:spPr>
            <a:xfrm>
              <a:off x="1476360" y="2421000"/>
              <a:ext cx="4390920" cy="3095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17" name="Picture 2" descr="39050_html_m14312ab5"/>
            <p:cNvPicPr/>
            <p:nvPr/>
          </p:nvPicPr>
          <p:blipFill>
            <a:blip r:embed="rId3"/>
            <a:srcRect l="63537" t="32003" r="8423" b="48725"/>
            <a:stretch/>
          </p:blipFill>
          <p:spPr>
            <a:xfrm>
              <a:off x="1476360" y="4651200"/>
              <a:ext cx="1857240" cy="865440"/>
            </a:xfrm>
            <a:prstGeom prst="rect">
              <a:avLst/>
            </a:prstGeom>
            <a:ln w="9360">
              <a:solidFill>
                <a:srgbClr val="ffffff"/>
              </a:solidFill>
              <a:round/>
            </a:ln>
          </p:spPr>
        </p:pic>
      </p:grpSp>
      <p:pic>
        <p:nvPicPr>
          <p:cNvPr id="418" name="Picture 5" descr="C:\Users\kimvv\Desktop\505.png"/>
          <p:cNvPicPr/>
          <p:nvPr/>
        </p:nvPicPr>
        <p:blipFill>
          <a:blip r:embed="rId4"/>
          <a:stretch/>
        </p:blipFill>
        <p:spPr>
          <a:xfrm>
            <a:off x="788508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9:01:08Z</dcterms:created>
  <dc:creator>Ким</dc:creator>
  <dc:description/>
  <dc:language>en-US</dc:language>
  <cp:lastModifiedBy>kimvv</cp:lastModifiedBy>
  <dcterms:modified xsi:type="dcterms:W3CDTF">2019-01-24T05:05:37Z</dcterms:modified>
  <cp:revision>90</cp:revision>
  <dc:subject/>
  <dc:title>Презентация PowerPoint</dc:title>
</cp:coreProperties>
</file>